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3D7-5129-4D5D-950D-23883A09409F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167-155F-43E2-9F75-DFD7300E55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20T11:50:18Z</dcterms:modified>
  <cp:revision>223</cp:revision>
  <dc:subject/>
  <dc:title>Slide 1</dc:title>
</cp:coreProperties>
</file>